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354-2FCD-44A3-914B-509F9B7E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B5C-654F-43CA-85C7-7D5C86F0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8D2-26CA-4196-B698-1214689F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48B-F15A-4DD7-9F50-B7AECBB3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5B7-3C1B-494D-A073-E5D2373E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655-3E37-43B0-8108-72A507C5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FAE-7845-43BD-837A-0F9B0917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F34-C9CC-459A-82B9-24021A77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41A-854F-4ED9-94A6-41E11811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D83-EC8C-480A-9D2A-C089602F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8ED-0149-4F61-8DF0-B09197BF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5CC-CA6C-4488-9614-108F8088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C25A-6D1C-409A-AD0B-401FB607F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i="1" lang="en-US" sz="48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476280"/>
            <a:ext cx="72644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Интерактивный 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«Что я знаю о Великобритании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Автор - Шипицына Ольга Викто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учитель английск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МБОУ «Верховажская нош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Вологод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5076720" y="5516640"/>
            <a:ext cx="935280" cy="576360"/>
          </a:xfrm>
          <a:custGeom>
            <a:avLst/>
            <a:gdLst>
              <a:gd name="textAreaLeft" fmla="*/ 37080 w 935280"/>
              <a:gd name="textAreaRight" fmla="*/ 898200 w 93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43" h="21600">
                <a:moveTo>
                  <a:pt x="0" y="0"/>
                </a:moveTo>
                <a:lnTo>
                  <a:pt x="35043" y="0"/>
                </a:lnTo>
                <a:lnTo>
                  <a:pt x="35043" y="21600"/>
                </a:lnTo>
                <a:lnTo>
                  <a:pt x="0" y="21600"/>
                </a:lnTo>
                <a:close/>
              </a:path>
              <a:path fill="lightenLess" w="35043" h="21600">
                <a:moveTo>
                  <a:pt x="0" y="0"/>
                </a:moveTo>
                <a:lnTo>
                  <a:pt x="35043" y="0"/>
                </a:lnTo>
                <a:lnTo>
                  <a:pt x="33643" y="1400"/>
                </a:lnTo>
                <a:lnTo>
                  <a:pt x="1400" y="1400"/>
                </a:lnTo>
                <a:close/>
              </a:path>
              <a:path fill="darken" w="35043" h="21600">
                <a:moveTo>
                  <a:pt x="35043" y="0"/>
                </a:moveTo>
                <a:lnTo>
                  <a:pt x="35043" y="21600"/>
                </a:lnTo>
                <a:lnTo>
                  <a:pt x="33643" y="20200"/>
                </a:lnTo>
                <a:lnTo>
                  <a:pt x="33643" y="1400"/>
                </a:lnTo>
                <a:close/>
              </a:path>
              <a:path fill="darkenLess" w="35043" h="21600">
                <a:moveTo>
                  <a:pt x="35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43" y="20200"/>
                </a:lnTo>
                <a:close/>
              </a:path>
              <a:path fill="lighten" w="35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43" h="21600">
                <a:moveTo>
                  <a:pt x="10515" y="3794"/>
                </a:moveTo>
                <a:lnTo>
                  <a:pt x="24528" y="10800"/>
                </a:lnTo>
                <a:lnTo>
                  <a:pt x="1051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2916360" y="5516640"/>
            <a:ext cx="1008000" cy="5763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888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7766" h="21600">
                <a:moveTo>
                  <a:pt x="1888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7766" h="21600">
                <a:moveTo>
                  <a:pt x="16307" y="8224"/>
                </a:moveTo>
                <a:lnTo>
                  <a:pt x="20171" y="8224"/>
                </a:lnTo>
                <a:lnTo>
                  <a:pt x="20171" y="15221"/>
                </a:lnTo>
                <a:lnTo>
                  <a:pt x="21459" y="15221"/>
                </a:lnTo>
                <a:lnTo>
                  <a:pt x="21459" y="16144"/>
                </a:lnTo>
                <a:lnTo>
                  <a:pt x="16307" y="16144"/>
                </a:lnTo>
                <a:lnTo>
                  <a:pt x="16307" y="15221"/>
                </a:lnTo>
                <a:lnTo>
                  <a:pt x="17595" y="15221"/>
                </a:lnTo>
                <a:lnTo>
                  <a:pt x="17595" y="9129"/>
                </a:lnTo>
                <a:lnTo>
                  <a:pt x="16307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6720" y="260280"/>
            <a:ext cx="3807000" cy="5191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0800000">
            <a:off x="395280" y="259920"/>
            <a:ext cx="4392720" cy="5545080"/>
          </a:xfrm>
          <a:prstGeom prst="wedgeRectCallout">
            <a:avLst>
              <a:gd name="adj1" fmla="val -69773"/>
              <a:gd name="adj2" fmla="val 2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равствуйте, ребят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.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хочу проверить, что вы знаете о Великобритании. Давайте разгадаем кроссвор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ход между слайдами осуществляй с помощью управляющей кноп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оявления ответа нажимай на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364500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5867280" y="5661000"/>
            <a:ext cx="1081080" cy="50472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248" h="21600">
                <a:moveTo>
                  <a:pt x="0" y="0"/>
                </a:moveTo>
                <a:lnTo>
                  <a:pt x="46248" y="0"/>
                </a:lnTo>
                <a:lnTo>
                  <a:pt x="46248" y="21600"/>
                </a:lnTo>
                <a:lnTo>
                  <a:pt x="0" y="21600"/>
                </a:lnTo>
                <a:close/>
              </a:path>
              <a:path fill="lightenLess" w="46248" h="21600">
                <a:moveTo>
                  <a:pt x="0" y="0"/>
                </a:moveTo>
                <a:lnTo>
                  <a:pt x="46248" y="0"/>
                </a:lnTo>
                <a:lnTo>
                  <a:pt x="44848" y="1400"/>
                </a:lnTo>
                <a:lnTo>
                  <a:pt x="1400" y="1400"/>
                </a:lnTo>
                <a:close/>
              </a:path>
              <a:path fill="darken" w="46248" h="21600">
                <a:moveTo>
                  <a:pt x="46248" y="0"/>
                </a:moveTo>
                <a:lnTo>
                  <a:pt x="46248" y="21600"/>
                </a:lnTo>
                <a:lnTo>
                  <a:pt x="44848" y="20200"/>
                </a:lnTo>
                <a:lnTo>
                  <a:pt x="44848" y="1400"/>
                </a:lnTo>
                <a:close/>
              </a:path>
              <a:path fill="darkenLess" w="46248" h="21600">
                <a:moveTo>
                  <a:pt x="4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48" y="20200"/>
                </a:lnTo>
                <a:close/>
              </a:path>
              <a:path fill="lighten" w="4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48" h="21600">
                <a:moveTo>
                  <a:pt x="16118" y="3794"/>
                </a:moveTo>
                <a:lnTo>
                  <a:pt x="30131" y="10800"/>
                </a:lnTo>
                <a:lnTo>
                  <a:pt x="1611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32000" y="126828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69228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4221000"/>
            <a:ext cx="338472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называется р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кото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ит город Лонд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620640"/>
            <a:ext cx="3585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4221000"/>
            <a:ext cx="388944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епость в Лондо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ая была тюрьм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тем дворцом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620640"/>
            <a:ext cx="3585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54936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4221000"/>
            <a:ext cx="439272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фамилия  английск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ател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ый извес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ими произведен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Винни-Пух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71640" y="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4292640"/>
            <a:ext cx="381636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наз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лица Великобрита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27280" y="234936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84360" y="1989000"/>
            <a:ext cx="503280" cy="287640"/>
          </a:xfrm>
          <a:prstGeom prst="rightArrow">
            <a:avLst>
              <a:gd name="adj1" fmla="val 50000"/>
              <a:gd name="adj2" fmla="val 437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4292640"/>
            <a:ext cx="396072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называется теа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торый основал В. Шексп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другие актё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0720" y="0"/>
            <a:ext cx="287280" cy="476280"/>
          </a:xfrm>
          <a:prstGeom prst="downArrow">
            <a:avLst>
              <a:gd name="adj1" fmla="val 50000"/>
              <a:gd name="adj2" fmla="val 414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endshow"/>
          </p:cNvPr>
          <p:cNvSpPr/>
          <p:nvPr/>
        </p:nvSpPr>
        <p:spPr>
          <a:xfrm>
            <a:off x="6227640" y="5805360"/>
            <a:ext cx="936720" cy="64800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19" y="1400"/>
                </a:lnTo>
                <a:lnTo>
                  <a:pt x="1400" y="140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19" y="20200"/>
                </a:lnTo>
                <a:lnTo>
                  <a:pt x="29819" y="140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19" y="2020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tatic.doska.orbita.co.il/images/users/116/11589_img_126124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ин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u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pedsovet.su/load/389-1-0-2975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блон для през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2987640" y="5229360"/>
            <a:ext cx="1224000" cy="72072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6676" h="21600">
                <a:moveTo>
                  <a:pt x="0" y="0"/>
                </a:moveTo>
                <a:lnTo>
                  <a:pt x="36676" y="0"/>
                </a:lnTo>
                <a:lnTo>
                  <a:pt x="36676" y="21600"/>
                </a:lnTo>
                <a:lnTo>
                  <a:pt x="0" y="21600"/>
                </a:lnTo>
                <a:close/>
              </a:path>
              <a:path fill="lightenLess" w="36676" h="21600">
                <a:moveTo>
                  <a:pt x="0" y="0"/>
                </a:moveTo>
                <a:lnTo>
                  <a:pt x="36676" y="0"/>
                </a:lnTo>
                <a:lnTo>
                  <a:pt x="35276" y="1400"/>
                </a:lnTo>
                <a:lnTo>
                  <a:pt x="1400" y="1400"/>
                </a:lnTo>
                <a:close/>
              </a:path>
              <a:path fill="darken" w="36676" h="21600">
                <a:moveTo>
                  <a:pt x="36676" y="0"/>
                </a:moveTo>
                <a:lnTo>
                  <a:pt x="36676" y="21600"/>
                </a:lnTo>
                <a:lnTo>
                  <a:pt x="35276" y="20200"/>
                </a:lnTo>
                <a:lnTo>
                  <a:pt x="35276" y="1400"/>
                </a:lnTo>
                <a:close/>
              </a:path>
              <a:path fill="darkenLess" w="36676" h="21600">
                <a:moveTo>
                  <a:pt x="3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76" y="20200"/>
                </a:lnTo>
                <a:close/>
              </a:path>
              <a:path fill="lighten" w="3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76" h="21600">
                <a:moveTo>
                  <a:pt x="1833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6676" h="21600">
                <a:moveTo>
                  <a:pt x="1833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6676" h="21600">
                <a:moveTo>
                  <a:pt x="15762" y="8224"/>
                </a:moveTo>
                <a:lnTo>
                  <a:pt x="19626" y="8224"/>
                </a:lnTo>
                <a:lnTo>
                  <a:pt x="19626" y="15221"/>
                </a:lnTo>
                <a:lnTo>
                  <a:pt x="20914" y="15221"/>
                </a:lnTo>
                <a:lnTo>
                  <a:pt x="20914" y="16144"/>
                </a:lnTo>
                <a:lnTo>
                  <a:pt x="15762" y="16144"/>
                </a:lnTo>
                <a:lnTo>
                  <a:pt x="15762" y="15221"/>
                </a:lnTo>
                <a:lnTo>
                  <a:pt x="17050" y="15221"/>
                </a:lnTo>
                <a:lnTo>
                  <a:pt x="17050" y="9129"/>
                </a:lnTo>
                <a:lnTo>
                  <a:pt x="15762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09:19:41Z</dcterms:created>
  <dc:creator>Navigator</dc:creator>
  <dc:description/>
  <dc:language>en-US</dc:language>
  <cp:lastModifiedBy>Navigator</cp:lastModifiedBy>
  <dcterms:modified xsi:type="dcterms:W3CDTF">2015-01-11T11:57:55Z</dcterms:modified>
  <cp:revision>30</cp:revision>
  <dc:subject/>
  <dc:title>Интерактивный кроссворд  «Что я знаю о Великобритании?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